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CE2-B87D-45BD-A35C-ABC35F1F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AB6-792F-42F3-B548-59BCAB02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36D-660E-483D-977F-79259B16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39F-FA44-424B-9FB2-FDD131FF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83B-B4E6-407C-8A31-4FD12586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8E0-A30C-4EAF-AB8A-8938F773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60E-69FE-48A1-895F-BFE3C5D4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4DE-7AC5-4090-A6CC-3ADCFDE8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2BD-C9D2-455D-8983-3E98016B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E56-42BC-4F0E-B684-831156CF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1F2-DB24-4126-8DD5-89B1B82C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F62-DB0F-4057-BF51-97F1D38D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96A9-DFC6-4CEA-BC51-5AEBE8E25C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129040" y="400536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 nom 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teur de recherch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populaire es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38160" y="4797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18000" y="481644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Grèce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85880" y="3929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elle équipe est devenu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l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hampionne d'Europe de footbal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 2004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75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28600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fait 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fait 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340000" y="3933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l obje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por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c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1908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mir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095080" y="544500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r à cheva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4520" y="5445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06160" y="4797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 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am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340000" y="3933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l obje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por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c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438160" y="54450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r à cheva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de litre 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l dans u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de litre 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l dans u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042920" y="4005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mbien y a-t-il de doigts à la ma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e 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ns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042920" y="4005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mbien y a-t-il de doigts à la main de 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ns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908000" y="4005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a pas de frontière avec la Suisse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20160" y="48164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llemag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37800" y="5445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5800" y="4797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129040" y="400536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 nom 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teur de recherch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populaire es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908000" y="4005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a pas de frontière avec la Suisse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979640" y="40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À  quel pays appartient la Cors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19080" y="48164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38520" y="5445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5800" y="4797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1979640" y="40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À  quel pays appartient la Cors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405440" y="479736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165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47640" y="40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utilise pas l'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18720" y="481644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38880" y="544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688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Fin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07240" y="47973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47640" y="40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utilise pas l'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38880" y="5445000"/>
            <a:ext cx="14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8920" y="393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n quelle année a eu lie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 premièr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upe du monde de sciage de gl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258920" y="393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n quelle année a eu lie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 premièr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upe du monde de sciage de gl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0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835280" y="39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mbien 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rête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un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835280" y="39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mbien 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rête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un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286000" y="40006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le est la largeur d'un but de football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76520" y="3929040"/>
            <a:ext cx="38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Quelle est la capitale de la Turqu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1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40006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le est la largeur d'un but de football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76520" y="3929040"/>
            <a:ext cx="38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Quelle est la capitale de la Turqu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547640" y="39337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y a t-il de livres dans la série Harry Potter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547640" y="39337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y a t-il de livres dans la série Harry Potter 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70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21472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ui chantait la chanson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472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ui chantait la chanson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5880" y="3929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elle équipe est devenu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l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hampionne d'Europe de football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 2004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4360" y="4816440"/>
            <a:ext cx="15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llemag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18000" y="481644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Grèce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7800" y="5445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5240" y="544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2:42:20Z</dcterms:modified>
  <cp:revision>72</cp:revision>
  <dc:subject/>
  <dc:title>Folie 1</dc:title>
</cp:coreProperties>
</file>