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3857-767B-4A22-9CAC-0A89F1AF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AFE-E092-4BD2-B644-F7C3C98F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63C-F0BA-4B92-81D4-0E2D239F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06E-2121-48B7-AB74-F17DD76C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62D-BBBB-4381-8EC7-5EBDD16C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D9A-1B88-4174-B148-032C055D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740-E6DC-4A22-8008-BBF01813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F3A-AC85-4DDB-B7F6-9D29329F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33A-09D8-47E0-9335-C74F951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829-1B55-4389-B408-1C30CCD1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545-8B90-4020-8B9F-43DE4890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EBD-2F69-41B7-B29E-14EA02FD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F4F1-9667-4EB6-972D-409C941618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794320" y="392904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 поисковик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305000" y="4816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92480" y="53928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ка-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420160" y="481644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г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5435280" y="5445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7"/>
          <p:cNvSpPr/>
          <p:nvPr/>
        </p:nvSpPr>
        <p:spPr>
          <a:xfrm>
            <a:off x="5423040" y="48164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357720" y="39290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апешт -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214280" y="39290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шахматная фигура стоящая рядом с корол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316160" y="48164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вая ле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420520" y="481644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р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42480" y="54450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341720" y="544500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рыш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5420520" y="481644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р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214280" y="392904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шахматная фигура стоящая рядом с королё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335772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осит счаст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427000" y="481644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рк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438880" y="5445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3800" y="54450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410840" y="479736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иллиа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5438880" y="5445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357720" y="392904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осит счасть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2286000" y="3857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умеют общее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льный 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ейбол и бадминтон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419080" y="4816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р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438160" y="54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408320" y="544500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лый мя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401840" y="4797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к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416560" y="48164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5438160" y="54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т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403280" y="544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03280" y="4797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0" y="385776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умеют общее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тольный теннис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лейбол и бадминтон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944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928880" y="39290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пальцев у Симпсонов на одной рук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437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40544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405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928880" y="392904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пальцев у Симпсонов на одной руке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22860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не граничит с Швейцарией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5416920" y="48164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5441760" y="54450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407600" y="479736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305000" y="4816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г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8420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794320" y="3929040"/>
            <a:ext cx="36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рнет поисковик назыв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0" y="392904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страна не граничит с Швейцарией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857240" y="3929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торой стране принадлежит остров Корс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5420880" y="481644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т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439960" y="54450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1410480" y="54450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409400" y="4797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11280" y="6381360"/>
            <a:ext cx="77724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40328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1409400" y="479736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857240" y="39290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 которой стране принадлежит остров Корс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2428920" y="39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й стране нельзя платить евр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422680" y="481644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438520" y="54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410120" y="54450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нля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403640" y="4797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5438520" y="544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г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2428920" y="392904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акой стране нельзя платить евр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571760" y="39290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из нижеприведённых инструментов не дух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228640" y="4797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сил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215680" y="5445000"/>
            <a:ext cx="8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262160" y="544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1255680" y="47973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б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5228640" y="4797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сило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219640" y="544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258920" y="544500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1258920" y="47973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571760" y="392904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й из нижеприведённых инструментов не духов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656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31431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ребер делает ку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22144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22180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2607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261080" y="544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143160" y="392904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ребер делает ку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ширина футбольных 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22468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5225760" y="5445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10,08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263960" y="5445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6,53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126396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2,55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6237000"/>
            <a:ext cx="77724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783880" y="39290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столица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309320" y="4816440"/>
            <a:ext cx="11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92840" y="53928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421600" y="48164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та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437440" y="54450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5224680" y="479736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7,32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5219640" y="544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2571840" y="392904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ширина футбольных воро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1392840" y="53928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к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783880" y="3929040"/>
            <a:ext cx="36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называется столица Ту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02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286000" y="392904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существует книг о Гарри Пот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31400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418360" y="481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33380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23736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5438520" y="54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392904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лько существует книг о Гарри Потте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071800" y="38577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певица поёт песню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ое сердце бьется для тебя)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16520" y="48164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мин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5420160" y="48164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н Д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5443560" y="54450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анис Мориссет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43520" y="544500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шли Симп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22160" y="616572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5420160" y="48164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н Ди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071800" y="385776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ая певица поёт песню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„My heart will go on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Мое сердце бьется для тебя)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C:\Users\Petr\Desktop\podklad_de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3357720" y="392904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апешт - сто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17960" y="48164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5423040" y="481644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437080" y="5445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рва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337040" y="544500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мы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308640"/>
            <a:ext cx="77724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7f7f7f"/>
                </a:solidFill>
                <a:latin typeface="Arial"/>
              </a:rPr>
              <a:t>Hra č. 16 B © Petr Hladík, 111 nových her pro atraktivní výuku jazyků, Grada Publishing 2016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54:53Z</dcterms:created>
  <dc:creator>kahraman</dc:creator>
  <dc:description/>
  <dc:language>en-US</dc:language>
  <cp:lastModifiedBy>Grada</cp:lastModifiedBy>
  <dcterms:modified xsi:type="dcterms:W3CDTF">2016-01-25T13:12:27Z</dcterms:modified>
  <cp:revision>79</cp:revision>
  <dc:subject/>
  <dc:title>Folie 1</dc:title>
</cp:coreProperties>
</file>