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5A3-8E32-4EF1-B61D-271748F8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6B3-8F03-402A-A860-718FA0E5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9A3-FD03-4325-96FF-4BDBFAC1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C56-57BA-4ED5-A60F-CD59B202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CF7-D20F-4A3F-9DBC-4115587E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9F9-E7FF-4EDC-B481-D9C41112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74A-A03B-4136-9CDC-4890F0AF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90D-25D4-4BDD-98C9-D45864E8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A45-C598-469D-9E62-AB37F3DD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5B3-5411-4252-A286-B92911D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8D7-A2DE-4313-BCBE-46D27EA1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5E4-5D17-4100-8335-877DC5EA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CD61-5C01-417C-A41D-25AB80DB61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933640" y="40006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scador de internet se l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18720" y="4816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928880" y="3929040"/>
            <a:ext cx="55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 fue el campeón de la Eurocopa d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214800" y="40006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 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04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14800" y="40006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 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07188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trae buena sue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19080" y="48164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362200" y="542916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gmentos de vidrio o céra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4160" y="54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06160" y="4797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am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307188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trae buena sue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62200" y="542916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gmentos de vidrio o céra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tros contien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04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tros contien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857240" y="40006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dedos tienen los Simpsons en la m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857240" y="40006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dedos tienen los Simpsons en la m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país no tiene frontera con Sui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19800" y="4816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816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544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33640" y="40006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scador de internet se l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10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país no tiene frontera con Sui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8600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A qué país pertenece la isla de Corceg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18720" y="4816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3816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580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580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28600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A qué país pertenece la isla de Corceg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500200" y="4000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n qué país no se paga con el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38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6520" y="544500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06520" y="479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438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0200" y="4000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n qué país no se paga con el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8920" y="39337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do fue el primer campeonato mundial de cortar hiel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-648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258920" y="39337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do fue el primer campeonato mundial de cortar hiel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78604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as aristas tiene un cub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78604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as aristas tiene un cub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l es el ancho de una portería de futbo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344680" y="400536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ómo se llama la capital de Turqu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868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l es el ancho de una portería de futbo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344680" y="400536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ómo se llama la capital de Turqu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71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bros hay de Harry Po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71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bros hay de Harry Po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476360" y="39337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cantante canta la canció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476360" y="39337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cantante canta la canció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28880" y="3929040"/>
            <a:ext cx="55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 fue el campeón de la Eurocopa d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4360" y="4816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18720" y="4816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816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4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23:31Z</dcterms:modified>
  <cp:revision>74</cp:revision>
  <dc:subject/>
  <dc:title>Folie 1</dc:title>
</cp:coreProperties>
</file>